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50BD-493A-44B7-8C05-E4050DAE4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839040"/>
            <a:ext cx="8458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45D9-2C14-4B05-B488-E63AD5114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83904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4560" y="383904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7108-B933-46B2-9237-1E9C30F1B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37124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0560" y="137124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83904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83904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0560" y="383904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ADA2-D0E0-418A-B187-DD883A079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86EC2-6177-4E0E-B2AB-F9DE3BC0B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A5851-C99B-4BE3-862D-4575B39A5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E8DFC-88FF-4B84-AE7E-94BCC23C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1E472-566E-4671-9DAC-35FDA5C0C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697E3-7BAE-414F-B81D-DF2D7915D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520" y="304920"/>
            <a:ext cx="84582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6B042-0370-4122-90AB-32AE4A8A5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520" y="383904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9905E-ED1D-44AC-86E9-908708C6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0869-0957-488B-A510-59A47D4AF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4560" y="383904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76C81-46CA-402C-8D0A-E43B715D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39040"/>
            <a:ext cx="8458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B8512-D3FD-4928-9EEC-DDD9C780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520" y="3839040"/>
            <a:ext cx="8458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F7ECF-B254-4B89-9AE8-107155628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520" y="383904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4560" y="383904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AC12E-8C99-46EF-AAAB-A921FEE9C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0360" y="137124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0560" y="137124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520" y="383904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0360" y="383904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0560" y="383904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A828B-C47A-428D-9F86-F2A8C1AD9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DAE3-6FBC-4DF0-B153-0DDCB574B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E3C5-01E8-4869-BA92-7BCFFA891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C3A2-873A-4717-8923-AA273112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304920"/>
            <a:ext cx="84582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B134-50DB-4CA5-863C-99F8CC69E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83904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6F9A-08AF-4148-8791-0E539552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4560" y="383904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959D-DE1B-4E3F-AD0A-3DB2197F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839040"/>
            <a:ext cx="8458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496F-933D-4941-9FBA-EBFD454A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bf5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bf5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bf5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bf5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bf5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81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bf5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f5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bf5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f5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43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bf5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372BC-9E37-4928-9DC9-9CE4D855866E}" type="slidenum">
              <a:rPr b="0" lang="en-US" sz="1000" spc="-1" strike="noStrike">
                <a:solidFill>
                  <a:srgbClr val="ebf5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1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bf5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f5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bf5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f5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bf5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A3812-8868-4F7A-925F-3536C66D55E3}" type="slidenum">
              <a:rPr b="0" lang="en-US" sz="1000" spc="-1" strike="noStrike">
                <a:solidFill>
                  <a:srgbClr val="ebf5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bf5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ebf5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f5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bf5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bf5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f5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bf5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ebf5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f5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ebf5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ebf5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f5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ebf5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ebf5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f5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ebf5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ebf5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f5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 Black"/>
              </a:rPr>
              <a:t>Go Tell The Good News – Part 2</a:t>
            </a:r>
            <a:endParaRPr b="1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33160" y="4723920"/>
            <a:ext cx="784836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bf5ff"/>
                </a:solidFill>
                <a:latin typeface="Arial"/>
              </a:rPr>
              <a:t>Quarter 12, Lesson 1</a:t>
            </a:r>
            <a:endParaRPr b="1" lang="en-US" sz="3200" spc="-1" strike="noStrike">
              <a:solidFill>
                <a:srgbClr val="ebf5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bf5ff"/>
                </a:solidFill>
                <a:latin typeface="Arial"/>
              </a:rPr>
              <a:t>Acts 18:23 – 19:9</a:t>
            </a:r>
            <a:endParaRPr b="1" lang="en-US" sz="3200" spc="-1" strike="noStrike">
              <a:solidFill>
                <a:srgbClr val="ebf5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bf5ff"/>
                </a:solidFill>
                <a:latin typeface="Arial"/>
              </a:rPr>
              <a:t>Pages 121-125</a:t>
            </a:r>
            <a:endParaRPr b="1" lang="en-US" sz="32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 Black"/>
              </a:rPr>
              <a:t>Three Months in the Synagogue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Jews will soon discover that they are no longer on the same page with Paul in their view of scripture and the Messiah – 19:8-9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They will begin speaking evil of the way of Christ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Paul and the disciples will have to move on to a school house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 Black"/>
              </a:rPr>
              <a:t>Paul’s Third Missionary Journey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Late 53 AD or Early 54 AD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bf5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f5ff"/>
                </a:solidFill>
                <a:latin typeface="Arial"/>
              </a:rPr>
              <a:t>Claudius died in AD 54</a:t>
            </a:r>
            <a:endParaRPr b="0" lang="en-US" sz="2800" spc="-1" strike="noStrike">
              <a:solidFill>
                <a:srgbClr val="ebf5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bf5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f5ff"/>
                </a:solidFill>
                <a:latin typeface="Arial"/>
              </a:rPr>
              <a:t>Nero became the Emperor</a:t>
            </a:r>
            <a:endParaRPr b="0" lang="en-US" sz="2800" spc="-1" strike="noStrike">
              <a:solidFill>
                <a:srgbClr val="ebf5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Books written on Third Journey: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bf5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f5ff"/>
                </a:solidFill>
                <a:latin typeface="Arial"/>
              </a:rPr>
              <a:t>Galatians</a:t>
            </a:r>
            <a:endParaRPr b="0" lang="en-US" sz="2800" spc="-1" strike="noStrike">
              <a:solidFill>
                <a:srgbClr val="ebf5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bf5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f5ff"/>
                </a:solidFill>
                <a:latin typeface="Arial"/>
              </a:rPr>
              <a:t>1 Corinthians</a:t>
            </a:r>
            <a:endParaRPr b="0" lang="en-US" sz="2800" spc="-1" strike="noStrike">
              <a:solidFill>
                <a:srgbClr val="ebf5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bf5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f5ff"/>
                </a:solidFill>
                <a:latin typeface="Arial"/>
              </a:rPr>
              <a:t>2 Corinthians</a:t>
            </a:r>
            <a:endParaRPr b="0" lang="en-US" sz="2800" spc="-1" strike="noStrike">
              <a:solidFill>
                <a:srgbClr val="ebf5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bf5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f5ff"/>
                </a:solidFill>
                <a:latin typeface="Arial"/>
              </a:rPr>
              <a:t>Romans</a:t>
            </a:r>
            <a:endParaRPr b="0" lang="en-US" sz="28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 Black"/>
              </a:rPr>
              <a:t>Paul’s Third Journey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906480"/>
            <a:ext cx="9144000" cy="59515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 Black"/>
              </a:rPr>
              <a:t>What IS The General Area of Galatia?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80880" y="1251000"/>
            <a:ext cx="8534520" cy="55418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 Black"/>
              </a:rPr>
              <a:t>Where Is Phrygia?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 Black"/>
              </a:rPr>
              <a:t>Churches of Galatia and Phrygia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25909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Derbe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Lystra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Iconium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Antioch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475080" y="1474920"/>
            <a:ext cx="5440320" cy="45925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80880" y="4572000"/>
            <a:ext cx="2971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f5ff"/>
                </a:solidFill>
                <a:latin typeface="Arial"/>
              </a:rPr>
              <a:t>Paul Comes Back On Third Journey To “Strengthen” The Brethren</a:t>
            </a:r>
            <a:endParaRPr b="0" lang="en-US" sz="20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624852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f5ff"/>
                </a:solidFill>
                <a:latin typeface="Arial"/>
              </a:rPr>
              <a:t>His Route on His First Missionary Journey</a:t>
            </a:r>
            <a:endParaRPr b="0" lang="en-US" sz="20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 Black"/>
              </a:rPr>
              <a:t>Apollos Comes To Ephesus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Acts 18:24-28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bf5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Apollos was a skilled and powerful preacher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bf5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But, He knew only what John the Baptist taught about the coming Messiah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bf5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Aquila and Priscilla took him aside and teach him more perfectly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bf5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He went to Greece to help in the gosp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bf5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He defended what the Jews attacked: Jesus really was/is the Christ (Messiah)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 Black"/>
              </a:rPr>
              <a:t>Paul Comes To Ephesus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1371600"/>
            <a:ext cx="4724280" cy="4014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3772080" y="2828880"/>
            <a:ext cx="5371920" cy="40291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981080" y="3048120"/>
            <a:ext cx="228600" cy="3808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4582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 Black"/>
              </a:rPr>
              <a:t>Paul Meets Twelve Former Disciples of John the Baptist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f5ff"/>
                </a:solidFill>
                <a:latin typeface="Arial"/>
              </a:rPr>
              <a:t>What Paul Asks Them: (Acts 19:1-2)</a:t>
            </a:r>
            <a:endParaRPr b="0" lang="en-US" sz="2800" spc="-1" strike="noStrike">
              <a:solidFill>
                <a:srgbClr val="ebf5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bf5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f5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ebf5ff"/>
                </a:solidFill>
                <a:latin typeface="Arial"/>
              </a:rPr>
              <a:t>Did you receive the Holy Spirit when you believed?”</a:t>
            </a:r>
            <a:endParaRPr b="0" lang="en-US" sz="2800" spc="-1" strike="noStrike">
              <a:solidFill>
                <a:srgbClr val="ebf5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f5ff"/>
                </a:solidFill>
                <a:latin typeface="Arial"/>
              </a:rPr>
              <a:t>How They Answer Him: (v.2-7)</a:t>
            </a:r>
            <a:endParaRPr b="0" lang="en-US" sz="2800" spc="-1" strike="noStrike">
              <a:solidFill>
                <a:srgbClr val="ebf5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bf5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f5ff"/>
                </a:solidFill>
                <a:latin typeface="Arial"/>
              </a:rPr>
              <a:t>They had not even heard of the Holy Spirit</a:t>
            </a:r>
            <a:endParaRPr b="0" lang="en-US" sz="2800" spc="-1" strike="noStrike">
              <a:solidFill>
                <a:srgbClr val="ebf5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f5ff"/>
                </a:solidFill>
                <a:latin typeface="Arial"/>
              </a:rPr>
              <a:t>Clarification of Jesus’ ministry, identity, and follow-up work of the Holy Spirit</a:t>
            </a:r>
            <a:endParaRPr b="0" lang="en-US" sz="2800" spc="-1" strike="noStrike">
              <a:solidFill>
                <a:srgbClr val="ebf5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f5ff"/>
                </a:solidFill>
                <a:latin typeface="Arial"/>
              </a:rPr>
              <a:t>Their Baptism in Jesus’ name</a:t>
            </a:r>
            <a:endParaRPr b="0" lang="en-US" sz="2800" spc="-1" strike="noStrike">
              <a:solidFill>
                <a:srgbClr val="ebf5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bf5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f5ff"/>
                </a:solidFill>
                <a:latin typeface="Arial"/>
              </a:rPr>
              <a:t>Same action as before, but with up-to-date information about the Messiah</a:t>
            </a:r>
            <a:endParaRPr b="0" lang="en-US" sz="2800" spc="-1" strike="noStrike">
              <a:solidFill>
                <a:srgbClr val="ebf5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bf5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f5ff"/>
                </a:solidFill>
                <a:latin typeface="Arial"/>
              </a:rPr>
              <a:t>Followed by imparting the Holy Spirit</a:t>
            </a:r>
            <a:endParaRPr b="0" lang="en-US" sz="28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2T17:31:35Z</dcterms:created>
  <dc:creator>Terry W. Benton</dc:creator>
  <dc:description/>
  <dc:language>en-US</dc:language>
  <cp:lastModifiedBy>Frank D Vines</cp:lastModifiedBy>
  <dcterms:modified xsi:type="dcterms:W3CDTF">2006-12-21T02:58:35Z</dcterms:modified>
  <cp:revision>4</cp:revision>
  <dc:subject/>
  <dc:title>Go Tell The Good News –Part 2</dc:title>
</cp:coreProperties>
</file>